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BC%20order%206.wav" ContentType="audio/x-wav"/>
  <Override PartName="/ppt/media/ABC%20order%207.wav" ContentType="audio/x-wav"/>
  <Override PartName="/ppt/media/image1.png" ContentType="image/png"/>
  <Override PartName="/ppt/media/ABC%20order%203.wav" ContentType="audio/x-wav"/>
  <Override PartName="/ppt/media/image2.gif" ContentType="image/gif"/>
  <Override PartName="/ppt/media/ABC%20order%202.wav" ContentType="audio/x-wav"/>
  <Override PartName="/ppt/media/ABC%20order%20cover.wav" ContentType="audio/x-wav"/>
  <Override PartName="/ppt/media/ABC%20order%201.wav" ContentType="audio/x-wav"/>
  <Override PartName="/ppt/media/image6.png" ContentType="image/png"/>
  <Override PartName="/ppt/media/image3.gif" ContentType="image/gif"/>
  <Override PartName="/ppt/media/image4.gif" ContentType="image/gif"/>
  <Override PartName="/ppt/media/ABC%20order%204.wav" ContentType="audio/x-wav"/>
  <Override PartName="/ppt/media/image5.gif" ContentType="image/gif"/>
  <Override PartName="/ppt/media/ABC%20order%205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A36-17FA-464A-B3DD-3374B153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027-18FA-4603-9553-40E4787D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0FC-C4A4-4A67-A567-E6A1B162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973-9A2F-4E77-BC7F-C4993FDA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42EC-8990-4D24-938F-26E9F5EB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CB7-2F81-42BA-8820-51B9A3B3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622B-A7ED-4163-99D8-0D179A41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4253-DC0B-4AE4-A2C1-3E887567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E17-F87F-49AE-91B1-D1EA2700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FF1A-345F-4F82-B24F-C2C281A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4DE-D623-4518-AA1B-0810C55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C5D-BE69-48A2-954A-2186A8DB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1E56-7EA6-4FE3-AA3E-4BD69878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D056-EF17-44E8-993B-71D5CCA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09B1-F14D-4AFC-A2CC-633AD6F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904B-8F38-46BC-933B-8F28F373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D98-ACF0-449D-B952-CF6E352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16D-3C71-4759-9AD0-964593D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941-5C76-4E21-89C3-C41E051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C2F-5D25-4185-B03E-7669B7BA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BD-72BB-4EB2-BCFE-212EBD6C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148-2938-4E95-A86A-79D1727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222-9010-4EA1-8E2D-B4C54EE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B9D-80FF-4424-97D2-784F4063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/>
              <a:ahLst/>
              <a:rect l="l" t="t" r="r" b="b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/>
              <a:ahLst/>
              <a:rect l="l" t="t" r="r" b="b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BD8-FC9D-41ED-A8BB-BA1346DF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/>
              <a:ahLst/>
              <a:rect l="l" t="t" r="r" b="b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/>
              <a:ahLst/>
              <a:rect l="l" t="t" r="r" b="b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21E-3943-4754-B437-A68187B3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BC%20order%20cov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%20order%20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BC%20order%2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ABC%20order%203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ABC%20order%204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BC%20order%205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BC%20order%206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BC%20order%207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1720" y="403848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44840" y="-6172200"/>
            <a:ext cx="4054320" cy="1920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BC Order</a:t>
            </a: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90920" y="2362320"/>
            <a:ext cx="3954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BC Order</a:t>
            </a:r>
            <a:endParaRPr b="1" lang="en-US" sz="6000" spc="1" strike="noStrike">
              <a:ln cap="sq"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bearcolor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165744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3640" y="95400"/>
            <a:ext cx="82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e can put words in a special order called alphabet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first letter of the word is used to tell where the word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pear in ABC order.  Look at these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rd apple would come first in ABC order because a co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 c or b in the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95440" y="730080"/>
            <a:ext cx="57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these words in ABC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840" y="1676520"/>
            <a:ext cx="126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362320"/>
            <a:ext cx="49532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971800"/>
            <a:ext cx="49532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581280"/>
            <a:ext cx="49532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at6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143964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8960" y="533520"/>
            <a:ext cx="81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your paper put these words in ABC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03920" y="1295280"/>
            <a:ext cx="119556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z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1480" y="1295280"/>
            <a:ext cx="142596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6800" y="1295280"/>
            <a:ext cx="114552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ishbowl" descr=""/>
          <p:cNvPicPr/>
          <p:nvPr/>
        </p:nvPicPr>
        <p:blipFill>
          <a:blip r:embed="rId1"/>
          <a:stretch/>
        </p:blipFill>
        <p:spPr>
          <a:xfrm>
            <a:off x="4191120" y="5334120"/>
            <a:ext cx="765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49240" y="533520"/>
            <a:ext cx="57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words  are in ABC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32560" y="1295280"/>
            <a:ext cx="153864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ck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ok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zza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0120" y="1295280"/>
            <a:ext cx="176868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o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5080" y="1295280"/>
            <a:ext cx="1488240" cy="2837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ld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ishbowl" descr=""/>
          <p:cNvPicPr/>
          <p:nvPr/>
        </p:nvPicPr>
        <p:blipFill>
          <a:blip r:embed="rId1"/>
          <a:stretch/>
        </p:blipFill>
        <p:spPr>
          <a:xfrm>
            <a:off x="4191120" y="5334120"/>
            <a:ext cx="765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78960" y="533520"/>
            <a:ext cx="81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your paper put these words in ABC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9120" y="1295280"/>
            <a:ext cx="132516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5600" y="1295280"/>
            <a:ext cx="119736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3000" y="1295280"/>
            <a:ext cx="183276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nd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comptype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67280" y="53352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words are shown in ABC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7760" y="1295280"/>
            <a:ext cx="166824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ny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d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84240" y="1295280"/>
            <a:ext cx="154008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sh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1640" y="1295280"/>
            <a:ext cx="217548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d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ndpa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mptype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76440" y="685800"/>
            <a:ext cx="82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w that you have learned to put word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lphabetical order, show a friend how to do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ay2gox" descr=""/>
          <p:cNvPicPr/>
          <p:nvPr/>
        </p:nvPicPr>
        <p:blipFill>
          <a:blip r:embed="rId1"/>
          <a:stretch/>
        </p:blipFill>
        <p:spPr>
          <a:xfrm>
            <a:off x="8534520" y="2819520"/>
            <a:ext cx="5087880" cy="208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5:01:46Z</dcterms:created>
  <dc:creator>Jefferson County Schools</dc:creator>
  <dc:description/>
  <dc:language>en-US</dc:language>
  <cp:lastModifiedBy>Elisa Wern</cp:lastModifiedBy>
  <dcterms:modified xsi:type="dcterms:W3CDTF">2004-01-18T02:17:08Z</dcterms:modified>
  <cp:revision>9</cp:revision>
  <dc:subject/>
  <dc:title>PowerPoint Presentation</dc:title>
</cp:coreProperties>
</file>